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jpeg" ContentType="image/jpeg"/>
  <Override PartName="/ppt/media/image7.png" ContentType="image/png"/>
  <Override PartName="/ppt/media/image12.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AA03-8F8F-4168-AC33-3726C3DAC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undreds of years the rivers of Maine have been treated as sewers for human and industrial was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the biggest problem with the Penobscot River is the accumulation of dioxin. Dioxin is a bi-product from bleaching paper with chlorine based products. Dioxin is the most lethal cancer causing compound ever studied. It accumulates in the fatty tissue of fish making them non-edibl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hing that these pollution causing industries have in common is that many of them use water power to operate the mills. In order to harness the power of the river you need a dam. Dams have damage the river by not allowing pollutant to flow freely to the sea, and also not allowing migratory spawning fish to return. The Penobscot Nation along with some other environmental group have teamed up to remove some of the dams from the Penobscot River.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Penobscotriver.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ollutants in the river where from land clearing and from sewage (human waste). Clearing the land of trees causes erosion and runoff from these lands made its way to the river. Sewer pipes for human waste were directly pointed to the riv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wasn’t until the mid 1800’s that the pollution problems on the Penobscot River started to become an issue. It was at this time that the lumbering industry started using the river system to shuttle large quantity of logs for lumber down the river.  It was estimated that four percent of all logs driven sank to the bottom of the river before they reached their destination. That four percent is significant if you think about he 400 million board feet of lumber was left on the bottom of the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s that cut this wood for lumber also contributed to the pollution. They dumped tons of sawdust, edgings and bark into the water. The sawdust would make its way to the estuaries and was deposited as sediment on the bottom of these tidal area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lumber industries, flour mills and shipbuilding predominated in 1840, and by 1860 the cotton and tanning industries had become establish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the pulp and paper cause many problems for the rivers. With the harvesting of more forest land the amount of clear cutting increased. Towns like Millinocket popped up around newly constructed pulp and paper plants. The age of “Big Paper” began on the Penobscot. On the Penobscot alone there were 7 pulp and paper mills, 22 leather plants, 25 textile mills, all contributing the rapid decline of quality of water in the Penobsco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72 the University of Maine did a study on the Penobscot River and found that the pollutants where robbing the river of the much needed oxygen. These lowered oxygen levels resulted in the depletion of fish population, and in 1959 the City of Bangor stopped using river water for drinking. At the same time that found that the riverbed was covered with sewage bacteria and the invertebrate community was restricted to worms, leeches, and pollution-tolerant midge larvae. The river was in such a state that man or animal could safely use the riv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Water Act (CWA) is the cornerstone of surface water quality protection in the United States. (The Act does not deal directly with ground water nor with water quantity issues.) The tries to reduce direct pollutant discharges into waterways, provide money for municipal wastewater treatment facilities, and manage polluted runoff. They are restoring and maintaining the chemical, physical, and biological integrity of the nation's waters so that they can support "the protection and propagation of fish, shellfish, and wildlife and recreation in and on the wate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Water Act is a milestone in the pollution history of the Penobscot. After 1972 the mills and municipalities on the river have been upgrading the raw sewage plants treating the water discharged back into the riv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e Department of Environmental Protection continues to monitor the river in partnership with the Penobscot Nation, which began monitoring the river in 1992. Today there are 47 sampling sites on the main stem and tributaries affected by pulp and paper mill effluent. The Penobscot Nation has established a network of sampling sites for basic chemistry, temperature, bacteria, and dissolved oxygen. They also have the facility and professional capacity to monitor and enact change for a better future for the rive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8E866-FC75-4CD7-B0F2-938F9BE1C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F72C3-01A5-440C-A391-E76E06F03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C68EB-FA1A-40D9-8FAB-D40C658DD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0AD1D-B427-4D14-8F40-8A34D8749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A52C9-AF2E-42E2-87F9-B7C780178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46A61-B228-4ECE-8ACD-8837D7271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1E845-E485-47CF-A0E7-12A45C1A2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13046-3CCA-4CD8-82AA-7019D69B6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2A949-B327-4ECD-943D-9CEA398A0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D6DF3-92DB-4C37-93A8-332501AB0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9768B-8D95-4253-A2F3-8DD388AD3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4698A-D708-427F-B993-4148DA355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4DB4C-1030-4294-88FD-A0248344B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4C53D-D3C1-41BA-9AFB-264C55419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C9308-928E-40EE-BE58-EF5A1F6D5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B1302-D354-479A-BA78-D8570C0F3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728F2-B411-49F7-BDAE-DB90DC120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A9118-69E4-4E30-BB32-E678B4AE6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B6854-C9B2-45A3-B6ED-7996B3557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74FD9-DCA3-4472-A9C0-15A507613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AAEAB-B4D8-4F68-888F-F48398BD8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AC38-ADAD-4924-AB32-F0222E985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ABD9F-1B3F-48B9-B081-A9B50FB99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D6085-E366-4C86-860B-A97269A80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AEBD-94F9-4391-8486-8938D800C0A8}"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446A-3658-433C-889C-C969B54208AA}"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Arial"/>
              </a:rPr>
              <a:t>Penobscot Pollution</a:t>
            </a:r>
            <a:br>
              <a:rPr sz="4800"/>
            </a:br>
            <a:br>
              <a:rPr sz="4800"/>
            </a:br>
            <a:br>
              <a:rPr sz="4800"/>
            </a:br>
            <a:br>
              <a:rPr sz="4800"/>
            </a:br>
            <a:br>
              <a:rPr sz="4800"/>
            </a:br>
            <a:endParaRPr b="0" lang="en-US" sz="7200" spc="-1" strike="noStrike">
              <a:solidFill>
                <a:srgbClr val="ccecff"/>
              </a:solidFill>
              <a:latin typeface="Arial"/>
            </a:endParaRPr>
          </a:p>
        </p:txBody>
      </p:sp>
      <p:pic>
        <p:nvPicPr>
          <p:cNvPr id="220" name="" descr=""/>
          <p:cNvPicPr/>
          <p:nvPr/>
        </p:nvPicPr>
        <p:blipFill>
          <a:blip r:embed="rId1"/>
          <a:stretch/>
        </p:blipFill>
        <p:spPr>
          <a:xfrm>
            <a:off x="1523880" y="1905120"/>
            <a:ext cx="6019920" cy="468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609480" y="380880"/>
            <a:ext cx="8153640" cy="4926240"/>
          </a:xfrm>
          <a:prstGeom prst="rect">
            <a:avLst/>
          </a:prstGeom>
          <a:ln w="0">
            <a:noFill/>
          </a:ln>
        </p:spPr>
      </p:pic>
      <p:pic>
        <p:nvPicPr>
          <p:cNvPr id="234" name="" descr=""/>
          <p:cNvPicPr/>
          <p:nvPr/>
        </p:nvPicPr>
        <p:blipFill>
          <a:blip r:embed="rId2"/>
          <a:stretch/>
        </p:blipFill>
        <p:spPr>
          <a:xfrm>
            <a:off x="457200" y="3505320"/>
            <a:ext cx="312408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152280" y="609480"/>
            <a:ext cx="8686800" cy="520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304920" y="228600"/>
            <a:ext cx="8458200" cy="634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1371600" y="990720"/>
            <a:ext cx="7543800" cy="5576760"/>
          </a:xfrm>
          <a:prstGeom prst="rect">
            <a:avLst/>
          </a:prstGeom>
          <a:ln w="0">
            <a:noFill/>
          </a:ln>
        </p:spPr>
      </p:pic>
      <p:pic>
        <p:nvPicPr>
          <p:cNvPr id="223" name="" descr=""/>
          <p:cNvPicPr/>
          <p:nvPr/>
        </p:nvPicPr>
        <p:blipFill>
          <a:blip r:embed="rId2"/>
          <a:stretch/>
        </p:blipFill>
        <p:spPr>
          <a:xfrm>
            <a:off x="304920" y="304920"/>
            <a:ext cx="214128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304920" y="609480"/>
            <a:ext cx="8534160" cy="529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533520" y="457200"/>
            <a:ext cx="8001000" cy="600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80880" y="380880"/>
            <a:ext cx="8458200" cy="56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972 Clean Water Act</a:t>
            </a:r>
            <a:endParaRPr b="0" lang="en-US" sz="4400" spc="-1" strike="noStrike">
              <a:solidFill>
                <a:srgbClr val="ccecff"/>
              </a:solidFill>
              <a:latin typeface="Arial"/>
            </a:endParaRPr>
          </a:p>
        </p:txBody>
      </p:sp>
      <p:pic>
        <p:nvPicPr>
          <p:cNvPr id="228" name="" descr=""/>
          <p:cNvPicPr/>
          <p:nvPr/>
        </p:nvPicPr>
        <p:blipFill>
          <a:blip r:embed="rId1"/>
          <a:stretch/>
        </p:blipFill>
        <p:spPr>
          <a:xfrm>
            <a:off x="609480" y="1371600"/>
            <a:ext cx="7391520" cy="499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152280" y="533520"/>
            <a:ext cx="8763120" cy="552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127080" y="95400"/>
            <a:ext cx="4902120" cy="3676680"/>
          </a:xfrm>
          <a:prstGeom prst="rect">
            <a:avLst/>
          </a:prstGeom>
          <a:ln w="0">
            <a:noFill/>
          </a:ln>
        </p:spPr>
      </p:pic>
      <p:pic>
        <p:nvPicPr>
          <p:cNvPr id="231" name="" descr=""/>
          <p:cNvPicPr/>
          <p:nvPr/>
        </p:nvPicPr>
        <p:blipFill>
          <a:blip r:embed="rId2"/>
          <a:stretch/>
        </p:blipFill>
        <p:spPr>
          <a:xfrm>
            <a:off x="914400" y="3505320"/>
            <a:ext cx="7453440" cy="3028680"/>
          </a:xfrm>
          <a:prstGeom prst="rect">
            <a:avLst/>
          </a:prstGeom>
          <a:ln w="0">
            <a:noFill/>
          </a:ln>
        </p:spPr>
      </p:pic>
      <p:pic>
        <p:nvPicPr>
          <p:cNvPr id="232" name="" descr=""/>
          <p:cNvPicPr/>
          <p:nvPr/>
        </p:nvPicPr>
        <p:blipFill>
          <a:blip r:embed="rId3"/>
          <a:stretch/>
        </p:blipFill>
        <p:spPr>
          <a:xfrm>
            <a:off x="5486400" y="304920"/>
            <a:ext cx="3029040" cy="296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4T17:18:11Z</dcterms:created>
  <dc:creator>jefrancis</dc:creator>
  <dc:description/>
  <dc:language>en-US</dc:language>
  <cp:lastModifiedBy>jefrancis</cp:lastModifiedBy>
  <dcterms:modified xsi:type="dcterms:W3CDTF">2006-07-24T18:01:01Z</dcterms:modified>
  <cp:revision>1</cp:revision>
  <dc:subject/>
  <dc:title>Penobscot Pollution     </dc:title>
</cp:coreProperties>
</file>